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1FD-DE34-4B4F-A2DE-121F867C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E7A-FEA0-45A1-B617-2ADA756D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6EA-C107-475A-963F-FED7B486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197-805D-4DE2-A30B-028965D1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5A92-A63D-4CBC-9C24-785B0022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B0D8-8D80-4BA6-A194-74E0B08E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01E2-97E8-4A01-AF8C-063B211C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4D7E-5256-4D17-8E70-E2EC353A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1CAD-16C4-4E5C-B908-FB60FE82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F01C-2B67-4242-8586-CC2FF922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B482-02CB-4B73-B53D-C0B4A386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65B-B5D7-470A-8DB4-E3E16D53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074C-0988-4E75-8B9A-B45534F3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A735-F366-433A-B34E-9DFF8D0F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A167-36B5-4AC8-9925-691E4902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6B57-1AD8-473B-B57C-BB21BB35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33E6-BA56-4497-A3FE-1F10DB3F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120-7276-4596-B7F8-FE8A8534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C42-DA21-47FC-BECC-1B12836B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7FD-B952-4D6E-AB92-6287F4ED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AB2-B603-4FC3-BCB7-66948463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9D55-767D-4C2F-B60D-71E31654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5C4-7B31-4500-BCF6-619A488C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76F-30BD-4891-9417-7BF94819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690840" indent="-26568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06272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48788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191304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AC41-04C8-4F05-9B26-F06AFEF15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4719-4AD6-407E-ADE9-CF796B5DB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4646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4646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6464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3399"/>
                </a:solidFill>
                <a:latin typeface="Arial"/>
              </a:rPr>
              <a:t>شركة العلم</a:t>
            </a:r>
            <a:endParaRPr b="0" lang="en-US" sz="6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ننسج المعلومة خدمة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3520" y="18637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3399"/>
                </a:solidFill>
                <a:latin typeface="Arial"/>
              </a:rPr>
              <a:t>تم</a:t>
            </a:r>
            <a:br>
              <a:rPr sz="6700"/>
            </a:b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تأكيد الملك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الخدمة التي تقدم السيرة الذاتية لكل سيارة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280" y="2798640"/>
            <a:ext cx="76201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464646"/>
                </a:solidFill>
                <a:latin typeface="Arial"/>
              </a:rPr>
              <a:t>الخدمة التي تخبر بالمالك الحقيقي للسيارة المستعملة قبل شرائها، وعدد الملاك السابقين، ومدد ملكياتهم، والمخالفات المستحقة على البائع والمشتري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قبل 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سي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سرق السيارات وتباع باستمارات مزورة..!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استم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ختفي معلوماتها عند استصدار (بدل فاقد).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وعندما جاءت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464646"/>
                </a:solidFill>
                <a:latin typeface="Arial"/>
              </a:rPr>
              <a:t>معرفة المالك الحقيقي، وعدد الملاك السابقين، ومدد ملكياتهم، والمخالفات المستحقة.. </a:t>
            </a:r>
            <a:r>
              <a:rPr b="0" lang="hi-IN" sz="3200" spc="-1" strike="noStrike">
                <a:solidFill>
                  <a:srgbClr val="ff0000"/>
                </a:solidFill>
                <a:latin typeface="Arial"/>
              </a:rPr>
              <a:t>خلال ثوان معدودة.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1305000"/>
            <a:ext cx="7362720" cy="555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83400" y="315828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-1908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5292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>
            <a:off x="133200" y="625896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Leaf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57520" y="1712880"/>
            <a:ext cx="2752560" cy="384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6320" y="1295280"/>
            <a:ext cx="2435040" cy="42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562720" y="2870280"/>
            <a:ext cx="3504960" cy="26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1522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Roll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603504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p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2195280"/>
            <a:ext cx="792036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شكرا</a:t>
            </a:r>
            <a:br>
              <a:rPr sz="10000"/>
            </a:b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لكم</a:t>
            </a:r>
            <a:endParaRPr b="0" lang="en-US" sz="10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2-17T09:30:05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